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CA9-375E-4421-A30A-0DAFA200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050-BBEE-4644-854F-0110922F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34B-46E4-4199-9A3B-A8CBE9F3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D2F-A7F1-4175-8E0D-19A68F44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48B-F656-4119-A980-396A885F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E1B-FCA5-46E3-A87B-42DF84AE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29C-DFB9-41DF-AD31-E638B48D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C10-E220-45FC-9ED9-F59C0D50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973-0503-4FB3-8D44-24FD5877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C71-F44E-4F31-9C96-57E568B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FC6-69DF-43B1-90C5-CE5DB1F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0F7-0005-4C14-9950-5844C308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2FA1-3FAD-4204-8876-7F51AA786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GI/GMOD Update 9/0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l Richard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di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375" t="16001" r="30002" b="25602"/>
          <a:stretch/>
        </p:blipFill>
        <p:spPr>
          <a:xfrm>
            <a:off x="1219320" y="762120"/>
            <a:ext cx="6781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tr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4375" t="18401" r="30002" b="18401"/>
          <a:stretch/>
        </p:blipFill>
        <p:spPr>
          <a:xfrm>
            <a:off x="1752480" y="304920"/>
            <a:ext cx="55627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r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3752" t="20000" r="36878" b="29601"/>
          <a:stretch/>
        </p:blipFill>
        <p:spPr>
          <a:xfrm>
            <a:off x="2666880" y="9144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a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251" t="28002" r="18751" b="14402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qdb_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for building and maintaining customized blastable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by MGI to build the MouseBLAST set of databases (19 external, 25 inter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class framework for filtering and routing sequence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 processing based on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hange in GenBank release proce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ndling for external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838080"/>
            <a:ext cx="7467840" cy="5105160"/>
            <a:chOff x="838080" y="838080"/>
            <a:chExt cx="7467840" cy="5105160"/>
          </a:xfrm>
        </p:grpSpPr>
        <p:sp>
          <p:nvSpPr>
            <p:cNvPr id="47" name=""/>
            <p:cNvSpPr/>
            <p:nvPr/>
          </p:nvSpPr>
          <p:spPr>
            <a:xfrm>
              <a:off x="7162920" y="2424600"/>
              <a:ext cx="1143000" cy="68976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38880" y="4218480"/>
              <a:ext cx="1067040" cy="75888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m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38080" y="1320480"/>
              <a:ext cx="6095880" cy="4553280"/>
              <a:chOff x="838080" y="1320480"/>
              <a:chExt cx="6095880" cy="4553280"/>
            </a:xfrm>
          </p:grpSpPr>
          <p:sp>
            <p:nvSpPr>
              <p:cNvPr id="50" name=""/>
              <p:cNvSpPr/>
              <p:nvPr/>
            </p:nvSpPr>
            <p:spPr>
              <a:xfrm>
                <a:off x="2869920" y="2099160"/>
                <a:ext cx="1151280" cy="598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02240" y="2158920"/>
                <a:ext cx="115164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69920" y="132048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02240" y="1380240"/>
                <a:ext cx="1151640" cy="598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8080" y="233892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41712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8080" y="509508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3456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34560" y="221904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808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34560" y="305784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4560" y="377676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34560" y="455580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34560" y="527472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57040" y="1679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040" y="25185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057040" y="3416760"/>
                <a:ext cx="609480" cy="23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040" y="3776760"/>
                <a:ext cx="609480" cy="11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057040" y="4915080"/>
                <a:ext cx="609480" cy="41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040" y="54543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4902120" y="2279160"/>
                <a:ext cx="1151280" cy="1197720"/>
                <a:chOff x="4902120" y="2279160"/>
                <a:chExt cx="1151280" cy="1197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902120" y="2279160"/>
                  <a:ext cx="1151280" cy="399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902120" y="2678400"/>
                  <a:ext cx="1151280" cy="39924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902120" y="30776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902120" y="4136400"/>
                <a:ext cx="1151280" cy="1198080"/>
                <a:chOff x="4902120" y="4136400"/>
                <a:chExt cx="1151280" cy="1198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902120" y="4136400"/>
                  <a:ext cx="1151280" cy="399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902120" y="4535640"/>
                  <a:ext cx="1151280" cy="39960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02120" y="49352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750840" y="1799640"/>
                <a:ext cx="1083240" cy="59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18160" y="2578680"/>
                <a:ext cx="10836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953880" y="281808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953880" y="3297240"/>
                <a:ext cx="8802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53880" y="407664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953880" y="5094720"/>
                <a:ext cx="880200" cy="47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89120" y="2878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89120" y="4675680"/>
                <a:ext cx="744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28600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4400" y="83808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838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72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125172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4680" y="8380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s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7600" y="6035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8040" y="6035760"/>
            <a:ext cx="17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7280" y="603576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3280" y="6035760"/>
            <a:ext cx="13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: Gene Expression Note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ab-notebook application for managing gene expressio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ys, reagents,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data submission to GX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in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on ports to Win 2000, Mac OS/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 ain’t so cross-platform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tology Browser/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 proposal: reimplement MGI’s text-based browser in Java, then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browsers already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prototyping work at MG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ical displays (using AT&amp;T GraphVi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SGD’s TermF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lan: release the prototyp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soon (core libraries ready to 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type GO 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15376"/>
          <a:stretch/>
        </p:blipFill>
        <p:spPr>
          <a:xfrm>
            <a:off x="533520" y="228600"/>
            <a:ext cx="80485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gf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8593" r="25113" b="4619"/>
          <a:stretch/>
        </p:blipFill>
        <p:spPr>
          <a:xfrm>
            <a:off x="1143000" y="228600"/>
            <a:ext cx="6553080" cy="636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1911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Set: 78 g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9376" t="23656" r="2344" b="5375"/>
          <a:stretch/>
        </p:blipFill>
        <p:spPr>
          <a:xfrm>
            <a:off x="533520" y="5335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un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357" t="18183" r="5698" b="6362"/>
          <a:stretch/>
        </p:blipFill>
        <p:spPr>
          <a:xfrm>
            <a:off x="0" y="7632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20:35:57Z</dcterms:created>
  <dc:creator>jer</dc:creator>
  <dc:description/>
  <dc:language>en-US</dc:language>
  <cp:lastModifiedBy>jer</cp:lastModifiedBy>
  <dcterms:modified xsi:type="dcterms:W3CDTF">2003-09-15T14:11:20Z</dcterms:modified>
  <cp:revision>14</cp:revision>
  <dc:subject/>
  <dc:title>PowerPoint Presentation</dc:title>
</cp:coreProperties>
</file>